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6.png" ContentType="image/png"/>
  <Override PartName="/ppt/media/image45.wmf" ContentType="image/x-wmf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72.wmf" ContentType="image/x-wmf"/>
  <Override PartName="/ppt/media/image54.wmf" ContentType="image/x-wmf"/>
  <Override PartName="/ppt/media/image2.png" ContentType="image/png"/>
  <Override PartName="/ppt/media/image14.png" ContentType="image/png"/>
  <Override PartName="/ppt/media/image55.wmf" ContentType="image/x-wmf"/>
  <Override PartName="/ppt/media/image15.png" ContentType="image/png"/>
  <Override PartName="/ppt/media/image20.wmf" ContentType="image/x-wmf"/>
  <Override PartName="/ppt/media/image57.wmf" ContentType="image/x-wmf"/>
  <Override PartName="/ppt/media/image56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9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29.wmf" ContentType="image/x-wmf"/>
  <Override PartName="/ppt/media/image66.wmf" ContentType="image/x-wmf"/>
  <Override PartName="/ppt/media/image65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4.wmf" ContentType="image/x-wmf"/>
  <Override PartName="/ppt/media/image27.wmf" ContentType="image/x-wmf"/>
  <Override PartName="/ppt/media/image24.wmf" ContentType="image/x-wmf"/>
  <Override PartName="/ppt/media/image61.wmf" ContentType="image/x-wmf"/>
  <Override PartName="/ppt/media/image3.wmf" ContentType="image/x-wmf"/>
  <Override PartName="/ppt/media/image33.wmf" ContentType="image/x-wmf"/>
  <Override PartName="/ppt/media/image16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1.png" ContentType="image/png"/>
  <Override PartName="/ppt/media/image70.wmf" ContentType="image/x-wmf"/>
  <Override PartName="/ppt/media/image48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18.png" ContentType="image/png"/>
  <Override PartName="/ppt/media/image40.wmf" ContentType="image/x-wmf"/>
  <Override PartName="/ppt/media/image6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52.wmf" ContentType="image/x-wmf"/>
  <Override PartName="/ppt/media/image8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244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45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244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45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4 - </a:t>
            </a:r>
            <a:fld id="{72D17A41-1E4B-498B-B904-A422088D6B75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4 - </a:t>
            </a:r>
            <a:fld id="{88494B04-237B-4C48-BCD0-5853F247807E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0.wmf"/><Relationship Id="rId8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0.wmf"/><Relationship Id="rId8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8.wmf"/><Relationship Id="rId10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8.wmf"/><Relationship Id="rId10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3.wmf"/><Relationship Id="rId1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3.wmf"/><Relationship Id="rId1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wmf"/><Relationship Id="rId10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wmf"/><Relationship Id="rId10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2.wmf"/><Relationship Id="rId1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2.wmf"/><Relationship Id="rId1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ctive Learning Lecture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r use with Classroom Respo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6400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2009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828800"/>
            <a:ext cx="3657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Chapter 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Polynomial and Rational Func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57600" y="1227240"/>
            <a:ext cx="4434120" cy="5554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graph represents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219320" y="12193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219320" y="388620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029200" y="3962520"/>
            <a:ext cx="2381400" cy="2381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191120" y="13716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122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zeros of the polynomial function and state the multiplicity of each.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025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–3, multiplicity 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ultiplicit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47920" y="4464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–3, multiplicity 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ultiplicit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3244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3, multiplicity 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ultiplicit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3, multiplicity 3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ultiplicity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122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zeros of the polynomial function and state the multiplicity of each.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2025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–3, multiplicity 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ultiplicit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47920" y="4464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–3, multiplicity 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ultiplicit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3244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3, multiplicity 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ultiplicit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3, multiplicity 3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ultiplicity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2133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betwee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and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between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between 0 and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between 2 and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122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, use the intermediate value theorem to determine which interval contains a zero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betwee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and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between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between 0 and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between 2 and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22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, use the intermediate value theorem to determine which interval contains a zero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46162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1949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betwee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and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between 0 and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3168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betwee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and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between 2 and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22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 use the intermediate value theorem to determine which interval contains a zero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1949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betwee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and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between 0 and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3168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betwee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and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between 2 and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122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 use the intermediate value theorem to determine which interval contains a zero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97160" y="323856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graph represents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219320" y="129528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219320" y="380988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181480" y="380988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graph represents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219320" y="129528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219320" y="380988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5181480" y="380988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91120" y="13716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graph represents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952880" y="12193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14300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ER 3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olynomial and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ational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120" y="2362320"/>
            <a:ext cx="8077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nomial Functions an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ng Polynomi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nomial Division; The Remainder and Factor Theor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s about Zeros of Polynomi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nomial and Rational Inequ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48320" y="6026040"/>
            <a:ext cx="684000" cy="831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graph represents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952880" y="12193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114300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" y="40384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graph represents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 –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4952880" y="12193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1143000" y="40384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graph represents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 –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952880" y="12193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1143000" y="40384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33520" y="13716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long division to find the quotient and remainder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 is divi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009880" y="2114640"/>
          <a:ext cx="3546360" cy="52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9880" y="2114640"/>
                    <a:ext cx="35463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009880" y="3321000"/>
          <a:ext cx="3547800" cy="52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9880" y="3321000"/>
                    <a:ext cx="35478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009880" y="4603680"/>
          <a:ext cx="3581280" cy="5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09880" y="4603680"/>
                    <a:ext cx="3581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009880" y="5772240"/>
          <a:ext cx="3744720" cy="520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09880" y="5772240"/>
                    <a:ext cx="3744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long division to find the quotient and remainder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 is divi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009880" y="2114640"/>
          <a:ext cx="3546360" cy="52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9880" y="2114640"/>
                    <a:ext cx="35463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009880" y="3321000"/>
          <a:ext cx="3547800" cy="52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9880" y="3321000"/>
                    <a:ext cx="35478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009880" y="4603680"/>
          <a:ext cx="3581280" cy="5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09880" y="4603680"/>
                    <a:ext cx="3581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2009880" y="5772240"/>
          <a:ext cx="3744720" cy="520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09880" y="5772240"/>
                    <a:ext cx="3744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1371600" y="2178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23880" y="763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ynthetic division to find the quotient and remainder when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 is divi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075040" y="2114640"/>
          <a:ext cx="3416040" cy="52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5040" y="2114640"/>
                    <a:ext cx="34160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075040" y="4635360"/>
          <a:ext cx="2017440" cy="45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5040" y="4635360"/>
                    <a:ext cx="2017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2075040" y="5772240"/>
          <a:ext cx="296208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5040" y="5772240"/>
                    <a:ext cx="29620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075040" y="3397320"/>
          <a:ext cx="2701800" cy="520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5040" y="3397320"/>
                    <a:ext cx="2701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23880" y="763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ynthetic division to find the quotient and remainder when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 is divi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075040" y="2114640"/>
          <a:ext cx="3416040" cy="52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5040" y="2114640"/>
                    <a:ext cx="34160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2075040" y="4635360"/>
          <a:ext cx="2017440" cy="45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5040" y="4635360"/>
                    <a:ext cx="2017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075040" y="5772240"/>
          <a:ext cx="296208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5040" y="5772240"/>
                    <a:ext cx="29620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075040" y="3397320"/>
          <a:ext cx="2701800" cy="520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5040" y="3397320"/>
                    <a:ext cx="2701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1371600" y="2178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1522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ynthetic division to determine which number is a zero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1522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ynthetic division to determine which number is a zero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56070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47920" y="1797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447920" y="4235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1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3016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13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3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523880" y="1047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synthetic division to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sify the polynomia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5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873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quadr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lin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092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quar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cub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1797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447920" y="4235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1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3016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13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3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1047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synthetic division to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55306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1949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47920" y="3168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ynthetic division to find determine which number is a zero of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47920" y="1949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47920" y="3168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ynthetic division to find determine which number is a zero of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4540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a polynomial function of degree 5 with rational coefficients 4,        and 3 –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zeros. Find one other z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426360" y="520560"/>
          <a:ext cx="647640" cy="5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6360" y="520560"/>
                    <a:ext cx="647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1981080" y="2133720"/>
          <a:ext cx="800280" cy="49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133720"/>
                    <a:ext cx="800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a polynomial function of degree 5 with rational coefficients 4,        and 3 –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zeros. Find one other z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2178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426360" y="520560"/>
          <a:ext cx="647640" cy="5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6360" y="520560"/>
                    <a:ext cx="647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1981080" y="2133720"/>
          <a:ext cx="800280" cy="49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133720"/>
                    <a:ext cx="800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polynomial function of lowest degree with rational coefficients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and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some of its z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160720" y="1949400"/>
          <a:ext cx="3741480" cy="5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720" y="1949400"/>
                    <a:ext cx="37414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2160720" y="3168720"/>
          <a:ext cx="3840120" cy="55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60720" y="3168720"/>
                    <a:ext cx="384012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2160720" y="4387680"/>
          <a:ext cx="3840120" cy="55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60720" y="4387680"/>
                    <a:ext cx="3840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2160720" y="5530680"/>
          <a:ext cx="3840120" cy="552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60720" y="5530680"/>
                    <a:ext cx="3840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polynomial function of lowest degree with rational coefficients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and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some of its z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160720" y="1949400"/>
          <a:ext cx="3741480" cy="5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720" y="1949400"/>
                    <a:ext cx="37414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>
            <a:off x="1447920" y="56070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160720" y="3168720"/>
          <a:ext cx="3840120" cy="55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60720" y="3168720"/>
                    <a:ext cx="384012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2160720" y="4387680"/>
          <a:ext cx="3840120" cy="55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60720" y="4387680"/>
                    <a:ext cx="3840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2160720" y="5530680"/>
          <a:ext cx="3840120" cy="552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60720" y="5530680"/>
                    <a:ext cx="3840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1952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447920" y="4390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47920" y="3171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56102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rational zeros theorem to determine which number cannot be a zero of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1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2133720" y="1876320"/>
          <a:ext cx="35712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876320"/>
                    <a:ext cx="35712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2133720" y="5460840"/>
          <a:ext cx="357120" cy="93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5460840"/>
                    <a:ext cx="3571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47920" y="1952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447920" y="4390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447920" y="3171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56102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rational zeros theorem to determine which number cannot be a zero of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1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133720" y="1876320"/>
          <a:ext cx="35712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876320"/>
                    <a:ext cx="35712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133720" y="5460840"/>
          <a:ext cx="357120" cy="93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5460840"/>
                    <a:ext cx="3571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1371600" y="454356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47920" y="2101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5, 3 or 1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3 o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2 or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negative real zeros does Descartes’ rule of signs indicat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6 h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sify the polynomia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5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873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quadr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lin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3092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quar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cub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320688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447920" y="2101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5, 3 or 1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3 o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2 or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negative real zeros does Descartes’ rule of signs indicat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6 h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2254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447920" y="2101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71600" y="763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rational zeros theorem to determine which number cannot be a zero of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2133720" y="1996920"/>
          <a:ext cx="35856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96920"/>
                    <a:ext cx="35856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2133720" y="3233880"/>
          <a:ext cx="355320" cy="94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3233880"/>
                    <a:ext cx="3553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2133720" y="4511520"/>
          <a:ext cx="583920" cy="94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33720" y="4511520"/>
                    <a:ext cx="5839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47920" y="2101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763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rational zeros theorem to determine which number cannot be a zero of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2133720" y="1996920"/>
          <a:ext cx="35856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96920"/>
                    <a:ext cx="35856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2133720" y="3233880"/>
          <a:ext cx="355320" cy="94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3233880"/>
                    <a:ext cx="3553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2133720" y="4511520"/>
          <a:ext cx="583920" cy="94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33720" y="4511520"/>
                    <a:ext cx="5839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1371600" y="2254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1724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447920" y="4162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47920" y="29433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447920" y="5381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43000" y="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vertical asymptot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2057400" y="5305320"/>
          <a:ext cx="110952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305320"/>
                    <a:ext cx="110952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6324480" y="304920"/>
          <a:ext cx="2616480" cy="101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04920"/>
                    <a:ext cx="26164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1724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1447920" y="4162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47920" y="29433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47920" y="5381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143000" y="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vertical asymptot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057400" y="5305320"/>
          <a:ext cx="110952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305320"/>
                    <a:ext cx="110952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1371600" y="309564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6324480" y="304920"/>
          <a:ext cx="2616480" cy="101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04920"/>
                    <a:ext cx="26164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523880" y="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graph represents th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746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33520" y="441324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4876920" y="417204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1066680" y="417204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4"/>
          <a:stretch/>
        </p:blipFill>
        <p:spPr>
          <a:xfrm>
            <a:off x="4876920" y="167004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5"/>
          <a:stretch/>
        </p:blipFill>
        <p:spPr>
          <a:xfrm>
            <a:off x="1066680" y="1670040"/>
            <a:ext cx="2381400" cy="238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2" name=""/>
          <p:cNvGraphicFramePr/>
          <p:nvPr/>
        </p:nvGraphicFramePr>
        <p:xfrm>
          <a:off x="3263760" y="457200"/>
          <a:ext cx="3137040" cy="93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63760" y="457200"/>
                    <a:ext cx="31370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1583640" y="63972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523880" y="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graph represents th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1746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533520" y="441324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4876920" y="417204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1066680" y="417204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4876920" y="167004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5"/>
          <a:stretch/>
        </p:blipFill>
        <p:spPr>
          <a:xfrm>
            <a:off x="1066680" y="167004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4114800" y="441324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3263760" y="457200"/>
          <a:ext cx="3137040" cy="93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63760" y="457200"/>
                    <a:ext cx="31370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1583640" y="63972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523880" y="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graph represents th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948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533520" y="42670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1066680" y="14479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1066680" y="41911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4952880" y="4191120"/>
            <a:ext cx="2381400" cy="23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5" name=""/>
          <p:cNvGraphicFramePr/>
          <p:nvPr/>
        </p:nvGraphicFramePr>
        <p:xfrm>
          <a:off x="3200400" y="457200"/>
          <a:ext cx="2603520" cy="1015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457200"/>
                    <a:ext cx="26035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1571040" y="63972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1523880" y="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graph represents th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533520" y="42670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191120" y="16002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1066680" y="14479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1066680" y="41911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4952880" y="4191120"/>
            <a:ext cx="2381400" cy="23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7" name=""/>
          <p:cNvGraphicFramePr/>
          <p:nvPr/>
        </p:nvGraphicFramePr>
        <p:xfrm>
          <a:off x="3200400" y="457200"/>
          <a:ext cx="2603520" cy="1015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457200"/>
                    <a:ext cx="26035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"/>
          <p:cNvSpPr/>
          <p:nvPr/>
        </p:nvSpPr>
        <p:spPr>
          <a:xfrm>
            <a:off x="1571040" y="63972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447920" y="1700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447920" y="4138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47920" y="29192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47920" y="5357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23880" y="1000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)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)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075040" y="1776240"/>
          <a:ext cx="2705040" cy="58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5040" y="1776240"/>
                    <a:ext cx="270504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2075040" y="2995560"/>
          <a:ext cx="2587320" cy="585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5040" y="2995560"/>
                    <a:ext cx="25873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2075040" y="4290840"/>
          <a:ext cx="2941560" cy="58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5040" y="4290840"/>
                    <a:ext cx="294156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075040" y="5433840"/>
          <a:ext cx="2901600" cy="58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5040" y="5433840"/>
                    <a:ext cx="29016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leading coefficient of the polynomial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7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1873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092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447920" y="1700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447920" y="4138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29192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5357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523880" y="1000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)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)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075040" y="1776240"/>
          <a:ext cx="2705040" cy="58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5040" y="1776240"/>
                    <a:ext cx="270504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2075040" y="2995560"/>
          <a:ext cx="2587320" cy="585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5040" y="2995560"/>
                    <a:ext cx="25873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2075040" y="4290840"/>
          <a:ext cx="2941560" cy="58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5040" y="4290840"/>
                    <a:ext cx="294156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2075040" y="5433840"/>
          <a:ext cx="2901600" cy="58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5040" y="5433840"/>
                    <a:ext cx="29016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"/>
          <p:cNvSpPr/>
          <p:nvPr/>
        </p:nvSpPr>
        <p:spPr>
          <a:xfrm>
            <a:off x="1447920" y="543384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447920" y="1749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1447920" y="4187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447920" y="2968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447920" y="5407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149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1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2027160" y="1494000"/>
          <a:ext cx="2770200" cy="116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7160" y="1494000"/>
                    <a:ext cx="2770200" cy="11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2027160" y="2712960"/>
          <a:ext cx="1216080" cy="124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27160" y="2712960"/>
                    <a:ext cx="121608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2027160" y="4008600"/>
          <a:ext cx="1254240" cy="1249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27160" y="4008600"/>
                    <a:ext cx="125424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2027160" y="5151600"/>
          <a:ext cx="1255680" cy="1249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7160" y="5151600"/>
                    <a:ext cx="125568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447920" y="1749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447920" y="4187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2968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5407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523880" y="149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1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2027160" y="1494000"/>
          <a:ext cx="2770200" cy="116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7160" y="1494000"/>
                    <a:ext cx="2770200" cy="11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2027160" y="2712960"/>
          <a:ext cx="1216080" cy="124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27160" y="2712960"/>
                    <a:ext cx="121608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2027160" y="4008600"/>
          <a:ext cx="1254240" cy="1249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27160" y="4008600"/>
                    <a:ext cx="125424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2027160" y="5151600"/>
          <a:ext cx="1255680" cy="1249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7160" y="5151600"/>
                    <a:ext cx="125568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1371600" y="434016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447920" y="1832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447920" y="427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447920" y="305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47920" y="5489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103480" y="1679400"/>
          <a:ext cx="1498680" cy="97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03480" y="1679400"/>
                    <a:ext cx="149868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2895480" y="152280"/>
          <a:ext cx="164016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152280"/>
                    <a:ext cx="164016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2103480" y="2898720"/>
          <a:ext cx="1558800" cy="97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03480" y="2898720"/>
                    <a:ext cx="15588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2103480" y="4194000"/>
          <a:ext cx="2905200" cy="974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03480" y="4194000"/>
                    <a:ext cx="29052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2103480" y="5349960"/>
          <a:ext cx="1498680" cy="974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03480" y="5349960"/>
                    <a:ext cx="149868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447920" y="1832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1447920" y="427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447920" y="305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5489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2103480" y="1679400"/>
          <a:ext cx="1498680" cy="97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03480" y="1679400"/>
                    <a:ext cx="149868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2895480" y="152280"/>
          <a:ext cx="164016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152280"/>
                    <a:ext cx="164016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2103480" y="2898720"/>
          <a:ext cx="1558800" cy="97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03480" y="2898720"/>
                    <a:ext cx="15588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103480" y="4194000"/>
          <a:ext cx="2905200" cy="974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03480" y="4194000"/>
                    <a:ext cx="29052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2103480" y="5349960"/>
          <a:ext cx="1498680" cy="974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03480" y="5349960"/>
                    <a:ext cx="149868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1371600" y="19051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447920" y="1809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447920" y="4248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3029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47920" y="5467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523880" y="209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027160" y="1554120"/>
          <a:ext cx="3024360" cy="11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7160" y="1554120"/>
                    <a:ext cx="30243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2027160" y="2773440"/>
          <a:ext cx="1451160" cy="124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27160" y="2773440"/>
                    <a:ext cx="14511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2027160" y="4095720"/>
          <a:ext cx="3060720" cy="116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27160" y="4095720"/>
                    <a:ext cx="30607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2027160" y="5315040"/>
          <a:ext cx="3060720" cy="1162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7160" y="5315040"/>
                    <a:ext cx="30607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447920" y="1809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1447920" y="4248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447920" y="3029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5467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523880" y="209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2027160" y="1554120"/>
          <a:ext cx="3024360" cy="11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7160" y="1554120"/>
                    <a:ext cx="30243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2027160" y="2773440"/>
          <a:ext cx="1451160" cy="124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27160" y="2773440"/>
                    <a:ext cx="14511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"/>
          <p:cNvSpPr/>
          <p:nvPr/>
        </p:nvSpPr>
        <p:spPr>
          <a:xfrm>
            <a:off x="1397160" y="555624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027160" y="4095720"/>
          <a:ext cx="3060720" cy="116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27160" y="4095720"/>
                    <a:ext cx="30607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2027160" y="5315040"/>
          <a:ext cx="3060720" cy="1162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7160" y="5315040"/>
                    <a:ext cx="30607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447920" y="1832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447920" y="427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305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447920" y="5489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2318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2073240" y="1679400"/>
          <a:ext cx="1560600" cy="97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3240" y="1679400"/>
                    <a:ext cx="15606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2913120" y="79200"/>
          <a:ext cx="160488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3120" y="79200"/>
                    <a:ext cx="160488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2073240" y="2898720"/>
          <a:ext cx="1069920" cy="97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3240" y="2898720"/>
                    <a:ext cx="106992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2073240" y="4194000"/>
          <a:ext cx="2692440" cy="974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3240" y="4194000"/>
                    <a:ext cx="26924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2073240" y="5349960"/>
          <a:ext cx="1039680" cy="974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73240" y="5349960"/>
                    <a:ext cx="103968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1447920" y="1832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447920" y="427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305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447920" y="5489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523880" y="2318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2073240" y="1679400"/>
          <a:ext cx="1560600" cy="97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3240" y="1679400"/>
                    <a:ext cx="15606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"/>
          <p:cNvSpPr/>
          <p:nvPr/>
        </p:nvSpPr>
        <p:spPr>
          <a:xfrm>
            <a:off x="1371600" y="312732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2913120" y="79200"/>
          <a:ext cx="160488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3120" y="79200"/>
                    <a:ext cx="160488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2073240" y="2898720"/>
          <a:ext cx="1069920" cy="97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3240" y="2898720"/>
                    <a:ext cx="106992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2073240" y="4194000"/>
          <a:ext cx="2692440" cy="974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3240" y="4194000"/>
                    <a:ext cx="26924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2073240" y="5349960"/>
          <a:ext cx="1039680" cy="974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73240" y="5349960"/>
                    <a:ext cx="103968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leading coefficient of the polynomial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7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1873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3092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464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degree of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1873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3092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degree of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873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092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2025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graph represents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219320" y="12193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219320" y="388620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029200" y="3962520"/>
            <a:ext cx="2381400" cy="2381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5-23T13:38:51Z</dcterms:modified>
  <cp:revision>224</cp:revision>
  <dc:subject/>
  <dc:title>No Slide Title</dc:title>
</cp:coreProperties>
</file>